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27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wmf" ContentType="image/x-wmf"/>
  <Override PartName="/ppt/media/image18.png" ContentType="image/png"/>
  <Override PartName="/ppt/media/image19.png" ContentType="image/png"/>
  <Override PartName="/ppt/media/image21.png" ContentType="image/png"/>
  <Override PartName="/ppt/media/image32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C62E-4667-4DD4-88C3-A3AE31F25A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AC4-0932-410A-9502-2998F9F58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w” – complete your definition of a PLC on voice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C PP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ibe doc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Cs at Work 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 Everywhere – check #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 4: Example of PLCs and quotes from teachers followed by general quo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186-1A8C-496B-B6DB-6A00467D8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47F0-B9DE-47DD-B475-8B3DB2798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79A-631E-44F0-B417-3B0E65B94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D19-9CF2-490A-8135-062EA0D84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PLC gap analysis information and what you learned about PLCs today, determine how this information can be included in your action pla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take about ____ minutes to work on this activity and then we’ll ask each team to briefly share how they plan to incorporate PLCs into their action pla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Rochel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y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ntico Hi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pping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rkt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drick Hud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NW BOCES Tech 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3DC-DC8A-4937-890B-5E0E0CF3E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16B0-5757-4677-96FF-309887771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61DD-5A77-4B0A-BAEE-FA87CFB24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1F6-7685-4482-9783-DF4BDEE11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CCE-1365-4370-A7D1-59EE8BEBB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69E2-04F3-48B8-B885-40448A425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36E-0C6A-45B7-8FEB-256E5979D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0C4D-262A-47ED-9D6A-97DFD65E4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F6D-14E3-402F-82B3-A14882CD3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8763-7C19-4436-8061-D3259D75C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B520-40E6-4C04-8E4C-75CE17325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C326-807C-4227-BC51-5F3CDE6DB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1AFC-A4FE-4564-A51E-495196BAB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68F-6806-421B-BA82-CDDB01434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EA7-7D6C-40A0-9605-D26E064AC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BC3-5B78-4900-B193-8CEF05FC3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A068-240F-4553-BCAA-A293D9FE1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E6F-033D-4A67-A493-96BBF6AD6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493-E040-403F-883A-01A00ADD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61A-3949-4EAE-BEFE-266E06B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F4B-DB24-4D12-97F8-5D447AF45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6A6-5E99-40F3-835E-4513CF3B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0AE-5F35-4FEA-B675-BC1CED67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EECC-D42E-48A8-BBA7-49A37E29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7875-8818-492F-A48B-1491AB19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FFF2-909F-4DE7-8BCB-DEEBDB0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B4A-A9D5-485B-A28C-E52E80E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E33C-659C-4BAD-8D74-916221E8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5223-666E-42DD-9475-0039A3BC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4F5-35DE-455F-A5E6-173B50B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266D-7F4E-460C-BB29-DD1B773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DA56-7C0A-492A-9F35-9644F0D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4966-D1B7-460C-9F9E-FBE6BA23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D5E2-1D21-46F8-94F7-D795A8E2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9B7-E9C9-4D38-AF99-6AC1EA20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04AFB-9D08-45DF-82DD-D50F0260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5EBFE-AC21-4A6E-901C-9CF03095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608E-2618-4ABE-B9A2-3BD99920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EFEB7-CF7E-44CA-A944-54E2EA1B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70ED-D8E3-4573-897E-B1088BEF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466-2BF4-4841-9C86-99E1B459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2F73-3532-4DD5-9DB7-8F22077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3FE3-05B3-48AD-9FBF-83EBE41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E2D1-C985-46B3-9009-7FC32C1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8B5B-C717-4CC7-AE68-BE062EB3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8761-2CE4-4A5D-933E-E3DF3471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E474-47EF-4FE5-856B-901BCA7A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A7C2-24D1-43F2-A17E-3628BB69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A523-E40C-4147-A68B-7991B1ED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5EA8-D9BD-49AD-872B-484D605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7A49-D44F-4908-AB3A-2D898B4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080-38E2-4DA5-8E2F-BF2418C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BDA40-4A81-401D-ABCF-2B946E33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4954-78E0-4D1A-9DDA-0FA935CB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6449-AF4D-4620-9547-F45F5F4B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AC75-86E0-4859-9331-D83AD048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8FFB-E8DE-416B-9178-BC1CD27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D393-224D-4BBB-9FA1-4F52852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4B2A-8E46-4F6E-AAAE-05E09560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50CF-CB96-46B6-AD1D-DC4711BA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248A-F820-4983-9B66-357D4A30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7E4B-95A8-42FC-ACF7-7CDCE4A0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EF7-0824-402A-A497-73E4F0C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953B-D0B1-4DDF-9B2A-7236DB4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022D0-8B39-4593-BDB9-F5D92601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8B2C-A39A-47E9-9439-23851E7A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F3BC-9C28-4AC0-998B-4D2C9CD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0AFE-06A9-4131-8560-35B8CCD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A1D6-E76E-41E9-BC68-1C2D6C3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5C45-B2F6-447E-B2E2-E2E56A8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5ED4-A08B-4C10-8BCE-7689CBE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EC9F-5C8D-49D2-A66A-CAA59D74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511FD-D030-4136-B143-1D293FB1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3D0-DCA8-4DAB-A042-F85F8DA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E667-2B01-44DA-B2BC-2F1B37DA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DFA7-6F09-404E-A543-5517288C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5F4F-F8F9-4E76-8AD9-D833E62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E459-0C39-4DD5-A12F-127C6D7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E700-CF07-4E74-BE80-8190A21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33F87-547C-4DAC-BF68-43E56B7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914E-3262-455E-9DAA-217A95F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2769-7E90-4EE4-AA63-6165CBFA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9AF16-33B5-406F-8672-2F20252F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F3E9-3488-4DDB-BEEA-7A41E9B4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B98-F358-4907-B4E4-1DC2E1A6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4DCB0-3169-4C4E-81EF-05F42C5B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73520-F3CD-4BA2-8EBF-3CBA01C8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2B43A-D5DB-450F-943C-49AE057E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CD2A-DA75-4A03-9B6D-9A59B331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CC3DA-E202-4402-BE6F-6D892A6C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E169-F428-4D46-A0AA-1B47DA1E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AC78-8DDB-4E79-8304-6D6AFD1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05AB-058C-4262-87BA-39992D50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E743-F85E-46A9-BFA3-D94AB98F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462B3-CDDD-4834-914B-16FCF54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C90-E291-4066-8AFA-03527E5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5D5C-3D8D-421B-9CB9-D66A9DAF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572B-4C94-44AD-9E82-8DA3437E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FAC8-5E0D-46C3-8250-AC12123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79EE0-2597-4548-BB6A-F13E69C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CACC7-712E-47DC-BCF5-475B7022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961E7-249B-44C5-824B-C90F4F86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F18B4-2561-4878-91DA-3A612A1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2DEBD-5C3E-4969-AEC2-78C7CE1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14793-59DA-4543-AA7A-5BC4EA6D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44C3-00C0-4363-B350-7FADD43F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2A9-3F03-4F37-A047-BC76A1A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FC0CB-7CBC-41EC-82B3-3CD80FBF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E0E3F-B07C-4AC9-BDC2-5BD4D9A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1C487-5110-4067-9B4F-6C0D0C2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951D-3333-4999-B31D-6777556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93B7-9769-484D-AE78-5378DE5E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6C4F-7053-458C-8790-273327C5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56592-6AC7-4FD0-B828-4FDA2C13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9DFF-6254-4802-A292-4F68440F168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F24-A5B6-4160-8C1E-03C3C50C3B2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044-D5B8-4579-A284-B58404222862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4682-3DB5-4BBA-93E4-4276720A865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20E4-D6B3-4CF9-8B9C-971288E9BE1C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3E4-F1F2-45C6-B325-54552B2BBC3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4F4-A777-46C7-97A4-987AD9772F3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02AC-54A2-4A3F-834D-EDB9A8CA502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58D-DFEA-49DE-899F-06EA3FD6A0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39E8-986B-460F-BE36-9B4BCF3CEF6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8D3F-BD34-4490-B125-2E9DA3DC3D2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300E-FBBB-4A90-A549-54E60649D3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3F8-CF87-4A1A-8D7B-986F39212DC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985B-0140-4198-B83D-6101BEA6B00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F70-7923-493A-BB32-371C914D213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youtube.com/watch?v=nLXDknPhU1c&amp;feature=related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centerforcsri.org/plc/literature.html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-6480" y="566640"/>
            <a:ext cx="9156960" cy="4523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utnam Northern Westchester BOCE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5" name="Picture 2" descr="C:\Users\Lynn\Pictures\boces_logo.gif"/>
          <p:cNvPicPr/>
          <p:nvPr/>
        </p:nvPicPr>
        <p:blipFill>
          <a:blip r:embed="rId2"/>
          <a:stretch/>
        </p:blipFill>
        <p:spPr>
          <a:xfrm>
            <a:off x="3429000" y="533412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Share example of </a:t>
            </a: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Yorktown High School Action Plan </a:t>
            </a: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– Lori Roberts, Assistant Principal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8F88-4D8E-45FF-9A4E-BEA272A6A26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52B-413A-4190-A8B1-C82587C0A75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2"/>
          <p:cNvGraphicFramePr/>
          <p:nvPr/>
        </p:nvGraphicFramePr>
        <p:xfrm>
          <a:off x="0" y="1447920"/>
          <a:ext cx="9144000" cy="51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91440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B206-FE63-4B73-85D8-C0EE1E2BDCD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Self-Reflection Activity: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318960"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</a:rPr>
              <a:t>Rate how your action plans incorporate PLC tenets 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3783-C427-4FAC-A744-71831D08546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C:\Users\Lynn\AppData\Local\Microsoft\Windows\Temporary Internet Files\Content.IE5\JAR6784C\MC900198862[1].wmf"/>
          <p:cNvPicPr/>
          <p:nvPr/>
        </p:nvPicPr>
        <p:blipFill>
          <a:blip r:embed="rId2"/>
          <a:stretch/>
        </p:blipFill>
        <p:spPr>
          <a:xfrm>
            <a:off x="7162920" y="152280"/>
            <a:ext cx="1833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444600"/>
            <a:ext cx="8016840" cy="93348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3"/>
          <p:cNvGrpSpPr/>
          <p:nvPr/>
        </p:nvGrpSpPr>
        <p:grpSpPr>
          <a:xfrm>
            <a:off x="533520" y="2872440"/>
            <a:ext cx="3475440" cy="1928520"/>
            <a:chOff x="533520" y="2872440"/>
            <a:chExt cx="3475440" cy="1928520"/>
          </a:xfrm>
        </p:grpSpPr>
        <p:sp>
          <p:nvSpPr>
            <p:cNvPr id="400" name="Text Box 4"/>
            <p:cNvSpPr/>
            <p:nvPr/>
          </p:nvSpPr>
          <p:spPr>
            <a:xfrm>
              <a:off x="533520" y="3551400"/>
              <a:ext cx="2286000" cy="8337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0b5cc"/>
                  </a:solidFill>
                  <a:latin typeface="Arial"/>
                </a:rPr>
                <a:t>Evalu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ponse to Intervention (Rt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5"/>
            <p:cNvGrpSpPr/>
            <p:nvPr/>
          </p:nvGrpSpPr>
          <p:grpSpPr>
            <a:xfrm>
              <a:off x="2436840" y="2872440"/>
              <a:ext cx="1572120" cy="1928520"/>
              <a:chOff x="2436840" y="2872440"/>
              <a:chExt cx="1572120" cy="1928520"/>
            </a:xfrm>
          </p:grpSpPr>
          <p:sp>
            <p:nvSpPr>
              <p:cNvPr id="402" name="Arc 6"/>
              <p:cNvSpPr/>
              <p:nvPr/>
            </p:nvSpPr>
            <p:spPr>
              <a:xfrm flipH="1" rot="18727800">
                <a:off x="2665800" y="3458160"/>
                <a:ext cx="1113120" cy="1113120"/>
              </a:xfrm>
              <a:custGeom>
                <a:avLst/>
                <a:gdLst>
                  <a:gd name="textAreaLeft" fmla="*/ 360 w 1113120"/>
                  <a:gd name="textAreaRight" fmla="*/ 1113840 w 1113120"/>
                  <a:gd name="textAreaTop" fmla="*/ 0 h 1113120"/>
                  <a:gd name="textAreaBottom" fmla="*/ 1113480 h 111312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0080ff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7"/>
              <p:cNvSpPr/>
              <p:nvPr/>
            </p:nvSpPr>
            <p:spPr>
              <a:xfrm flipH="1" rot="2790000">
                <a:off x="3018240" y="2971800"/>
                <a:ext cx="480600" cy="479520"/>
              </a:xfrm>
              <a:prstGeom prst="triangle">
                <a:avLst>
                  <a:gd name="adj" fmla="val 50000"/>
                </a:avLst>
              </a:prstGeom>
              <a:solidFill>
                <a:srgbClr val="0080ff"/>
              </a:solidFill>
              <a:ln w="9360">
                <a:solidFill>
                  <a:srgbClr val="0080ff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Group 8"/>
          <p:cNvGrpSpPr/>
          <p:nvPr/>
        </p:nvGrpSpPr>
        <p:grpSpPr>
          <a:xfrm>
            <a:off x="4948920" y="3123720"/>
            <a:ext cx="4195080" cy="1926720"/>
            <a:chOff x="4948920" y="3123720"/>
            <a:chExt cx="4195080" cy="1926720"/>
          </a:xfrm>
        </p:grpSpPr>
        <p:sp>
          <p:nvSpPr>
            <p:cNvPr id="405" name="Text Box 9"/>
            <p:cNvSpPr/>
            <p:nvPr/>
          </p:nvSpPr>
          <p:spPr>
            <a:xfrm>
              <a:off x="6248520" y="3522600"/>
              <a:ext cx="2895480" cy="13269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52355"/>
                  </a:solidFill>
                  <a:latin typeface="Arial"/>
                </a:rPr>
                <a:t>Problem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ing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 Variables that Contribute to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velop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10"/>
            <p:cNvGrpSpPr/>
            <p:nvPr/>
          </p:nvGrpSpPr>
          <p:grpSpPr>
            <a:xfrm>
              <a:off x="4948920" y="3123720"/>
              <a:ext cx="1577880" cy="1926720"/>
              <a:chOff x="4948920" y="3123720"/>
              <a:chExt cx="1577880" cy="1926720"/>
            </a:xfrm>
          </p:grpSpPr>
          <p:sp>
            <p:nvSpPr>
              <p:cNvPr id="407" name="Arc 11"/>
              <p:cNvSpPr/>
              <p:nvPr/>
            </p:nvSpPr>
            <p:spPr>
              <a:xfrm flipV="1" rot="18727800">
                <a:off x="5176800" y="3355920"/>
                <a:ext cx="1121760" cy="1113120"/>
              </a:xfrm>
              <a:custGeom>
                <a:avLst/>
                <a:gdLst>
                  <a:gd name="textAreaLeft" fmla="*/ 0 w 1121760"/>
                  <a:gd name="textAreaRight" fmla="*/ 1122120 w 1121760"/>
                  <a:gd name="textAreaTop" fmla="*/ 360 h 1113120"/>
                  <a:gd name="textAreaBottom" fmla="*/ 1113840 h 111312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AutoShape 12"/>
              <p:cNvSpPr/>
              <p:nvPr/>
            </p:nvSpPr>
            <p:spPr>
              <a:xfrm flipV="1" rot="2790000">
                <a:off x="5460120" y="4469400"/>
                <a:ext cx="484200" cy="4795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Group 13"/>
          <p:cNvGrpSpPr/>
          <p:nvPr/>
        </p:nvGrpSpPr>
        <p:grpSpPr>
          <a:xfrm>
            <a:off x="2095560" y="1617840"/>
            <a:ext cx="4952880" cy="1933920"/>
            <a:chOff x="2095560" y="1617840"/>
            <a:chExt cx="4952880" cy="1933920"/>
          </a:xfrm>
        </p:grpSpPr>
        <p:sp>
          <p:nvSpPr>
            <p:cNvPr id="410" name="Text Box 14"/>
            <p:cNvSpPr/>
            <p:nvPr/>
          </p:nvSpPr>
          <p:spPr>
            <a:xfrm>
              <a:off x="2095560" y="1617840"/>
              <a:ext cx="4952880" cy="5871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2e536"/>
                  </a:solidFill>
                  <a:latin typeface="Arial"/>
                  <a:ea typeface="Arial"/>
                </a:rPr>
                <a:t>Define the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ing Problem/Directly Measuring Behav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3655800" y="1977120"/>
              <a:ext cx="1927800" cy="1574640"/>
              <a:chOff x="3655800" y="1977120"/>
              <a:chExt cx="1927800" cy="1574640"/>
            </a:xfrm>
          </p:grpSpPr>
          <p:sp>
            <p:nvSpPr>
              <p:cNvPr id="412" name="Arc 16"/>
              <p:cNvSpPr/>
              <p:nvPr/>
            </p:nvSpPr>
            <p:spPr>
              <a:xfrm flipH="1" rot="2527800">
                <a:off x="3884040" y="2207880"/>
                <a:ext cx="1117440" cy="1112400"/>
              </a:xfrm>
              <a:custGeom>
                <a:avLst/>
                <a:gdLst>
                  <a:gd name="textAreaLeft" fmla="*/ 360 w 1117440"/>
                  <a:gd name="textAreaRight" fmla="*/ 1118160 w 1117440"/>
                  <a:gd name="textAreaTop" fmla="*/ 0 h 1112400"/>
                  <a:gd name="textAreaBottom" fmla="*/ 1112760 h 111240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48cc22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7"/>
              <p:cNvSpPr/>
              <p:nvPr/>
            </p:nvSpPr>
            <p:spPr>
              <a:xfrm flipH="1" rot="8190000">
                <a:off x="5001840" y="2560320"/>
                <a:ext cx="482760" cy="479520"/>
              </a:xfrm>
              <a:prstGeom prst="triangle">
                <a:avLst>
                  <a:gd name="adj" fmla="val 50000"/>
                </a:avLst>
              </a:prstGeom>
              <a:solidFill>
                <a:srgbClr val="48cc22"/>
              </a:solidFill>
              <a:ln w="9360">
                <a:solidFill>
                  <a:srgbClr val="48cc22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8"/>
          <p:cNvGrpSpPr/>
          <p:nvPr/>
        </p:nvGrpSpPr>
        <p:grpSpPr>
          <a:xfrm>
            <a:off x="2971800" y="4339440"/>
            <a:ext cx="3200400" cy="2379600"/>
            <a:chOff x="2971800" y="4339440"/>
            <a:chExt cx="3200400" cy="2379600"/>
          </a:xfrm>
        </p:grpSpPr>
        <p:sp>
          <p:nvSpPr>
            <p:cNvPr id="415" name="Text Box 19"/>
            <p:cNvSpPr/>
            <p:nvPr/>
          </p:nvSpPr>
          <p:spPr>
            <a:xfrm>
              <a:off x="2971800" y="5638680"/>
              <a:ext cx="3200400" cy="10803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e528"/>
                  </a:solidFill>
                  <a:latin typeface="Arial"/>
                  <a:ea typeface="Arial"/>
                </a:rPr>
                <a:t>Implement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 As Inte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gress Mon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ify as Necess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20"/>
            <p:cNvGrpSpPr/>
            <p:nvPr/>
          </p:nvGrpSpPr>
          <p:grpSpPr>
            <a:xfrm>
              <a:off x="3404520" y="4339440"/>
              <a:ext cx="1928160" cy="1574640"/>
              <a:chOff x="3404520" y="4339440"/>
              <a:chExt cx="1928160" cy="1574640"/>
            </a:xfrm>
          </p:grpSpPr>
          <p:sp>
            <p:nvSpPr>
              <p:cNvPr id="417" name="Arc 21"/>
              <p:cNvSpPr/>
              <p:nvPr/>
            </p:nvSpPr>
            <p:spPr>
              <a:xfrm flipV="1" rot="2527800">
                <a:off x="3986280" y="4570200"/>
                <a:ext cx="1117440" cy="1112400"/>
              </a:xfrm>
              <a:custGeom>
                <a:avLst/>
                <a:gdLst>
                  <a:gd name="textAreaLeft" fmla="*/ 0 w 1117440"/>
                  <a:gd name="textAreaRight" fmla="*/ 1117800 w 1117440"/>
                  <a:gd name="textAreaTop" fmla="*/ 360 h 1112400"/>
                  <a:gd name="textAreaBottom" fmla="*/ 1113120 h 1112400"/>
                </a:gdLst>
                <a:ahLst/>
                <a:rect l="textAreaLeft" t="textAreaTop" r="textAreaRight" b="textAreaBottom"/>
                <a:pathLst>
                  <a:path fill="none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</a:path>
                  <a:path stroke="0" w="25270" h="21974">
                    <a:moveTo>
                      <a:pt x="-1" y="314"/>
                    </a:moveTo>
                    <a:cubicBezTo>
                      <a:pt x="1212" y="105"/>
                      <a:pt x="2439" y="-1"/>
                      <a:pt x="3670" y="-1"/>
                    </a:cubicBezTo>
                    <a:cubicBezTo>
                      <a:pt x="15599" y="0"/>
                      <a:pt x="25270" y="9670"/>
                      <a:pt x="25270" y="21600"/>
                    </a:cubicBezTo>
                    <a:cubicBezTo>
                      <a:pt x="25270" y="21724"/>
                      <a:pt x="25268" y="21849"/>
                      <a:pt x="25266" y="21974"/>
                    </a:cubicBezTo>
                    <a:lnTo>
                      <a:pt x="3670" y="21600"/>
                    </a:lnTo>
                    <a:close/>
                  </a:path>
                </a:pathLst>
              </a:custGeom>
              <a:noFill/>
              <a:ln w="76320">
                <a:solidFill>
                  <a:srgbClr val="e5d508"/>
                </a:solidFill>
                <a:round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22"/>
              <p:cNvSpPr/>
              <p:nvPr/>
            </p:nvSpPr>
            <p:spPr>
              <a:xfrm flipV="1" rot="8190000">
                <a:off x="3503160" y="4850280"/>
                <a:ext cx="482760" cy="479520"/>
              </a:xfrm>
              <a:prstGeom prst="triangle">
                <a:avLst>
                  <a:gd name="adj" fmla="val 50000"/>
                </a:avLst>
              </a:prstGeom>
              <a:solidFill>
                <a:srgbClr val="e5d508"/>
              </a:solidFill>
              <a:ln w="9360">
                <a:solidFill>
                  <a:srgbClr val="e5d508"/>
                </a:solidFill>
                <a:miter/>
              </a:ln>
              <a:effectLst>
                <a:outerShdw dist="38183" dir="2700000" blurRad="0" rotWithShape="0">
                  <a:srgbClr val="00000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23" descr=""/>
          <p:cNvPicPr/>
          <p:nvPr/>
        </p:nvPicPr>
        <p:blipFill>
          <a:blip r:embed="rId2"/>
          <a:stretch/>
        </p:blipFill>
        <p:spPr>
          <a:xfrm>
            <a:off x="3919680" y="3108240"/>
            <a:ext cx="1304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808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ew Video Clip on  Instructional L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youtube.com/watch?v=nLXDknPhU1c&amp;feature=rela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A051-31B2-4B3A-AE0B-88B08730077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3"/>
          <a:stretch/>
        </p:blipFill>
        <p:spPr>
          <a:xfrm>
            <a:off x="1322280" y="3255840"/>
            <a:ext cx="64864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farside"/>
          <p:cNvPicPr/>
          <p:nvPr/>
        </p:nvPicPr>
        <p:blipFill>
          <a:blip r:embed="rId1"/>
          <a:stretch/>
        </p:blipFill>
        <p:spPr>
          <a:xfrm>
            <a:off x="3581280" y="396720"/>
            <a:ext cx="5112000" cy="60627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838080" y="19051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AmericanTypewriter"/>
              </a:rPr>
              <a:t>High above the hushed crowd, Rex tried to remain focused. Still, he couldn’t shake one nagging thought: He was an old dog and this was a new trick</a:t>
            </a:r>
            <a:r>
              <a:rPr b="1" lang="en-US" sz="1800" spc="-1" strike="noStrike">
                <a:solidFill>
                  <a:srgbClr val="b48200"/>
                </a:solidFill>
                <a:latin typeface="AmericanTypewriter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 vert="eaVer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5791320" y="1523520"/>
            <a:ext cx="2590560" cy="3048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213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Typewriter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mericanTypewriter"/>
              </a:rPr>
              <a:t>Stop asking me if we’re almost there; we’re Nomads, for crying out loud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3" descr="nomads"/>
          <p:cNvPicPr/>
          <p:nvPr/>
        </p:nvPicPr>
        <p:blipFill>
          <a:blip r:embed="rId1"/>
          <a:stretch/>
        </p:blipFill>
        <p:spPr>
          <a:xfrm>
            <a:off x="533520" y="228600"/>
            <a:ext cx="52401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flect on one of the following featured quotes and indicate an issue/challenge/action that it suggests in relation to your action plan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A leader must have the courage to act against an expert’s advice.   James Callagha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Leadership is the art of getting someone else to do something you want done because he wants to do it.  Dwight Eisenhow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re’s nothing more demoralizing than a leader who can’t clearly articulate why we’re doing what we’re doing.  James Kouzes and Barry Posn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The very essence of leadership is that you have  vision.  You can’t blow an uncertain trumpet.   Theodore  M. Hesburgh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I start with the premise that the function of leadership is to develop more leaders, not more followers.  Ralph Nade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87B-4076-4042-9DB5-B1E8773A1D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7C4-34B2-4C6B-A457-DB39CBCD18C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rofessional Learning Communities (PLCs) Review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NW BOCES PLCs at Work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Yorktown High School Action Plan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PLC Gap Analysis/Reflection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rbel"/>
              </a:rPr>
              <a:t>Action Plan Feedback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201-DA98-4FE0-9278-3CD2B52D4DE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8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44792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Initial Presentation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Presenter presents a quick overview of his/her challenge. Frames one question for the response group to address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Clarifying Questions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esponse group members ask questions of the presenter that have factual   answers of a phrase or two in length. 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Probing Questions (5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esponse group members ask questions of the presenter that help the presenter clarify and extend his/her own thinking about the matter that has been presented to the group.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Non-presenter Discussion (10 minute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response group talks with each other while the presenter listens and takes note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Presenter Responds (10 minutes)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he presenter responds to what the response group members said in the previous section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Reflection/Debrief (5 minutes)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Group debriefs the process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en-US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-36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at was one of the most valuable things that you learned from participating in this workshop seri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What suggestions do you have for future sess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B0A-10E8-4EE5-97B9-FEAE7BE9573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848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rbel"/>
              </a:rPr>
              <a:t>Congratulations on completing the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rbel"/>
              </a:rPr>
              <a:t>Regional Institute for School Leadership!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Corbel"/>
              </a:rPr>
              <a:t>Thank you for all of your contributions and please stay in touch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112F-9CF8-4C4B-8C3C-0D98417A08A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http://ts4.mm.bing.net/images/thumbnail.aspx?q=384200226223&amp;id=046caaac8d4ed4372e5e37a29bb89efc&amp;index=ch1"/>
          <p:cNvPicPr/>
          <p:nvPr/>
        </p:nvPicPr>
        <p:blipFill>
          <a:blip r:embed="rId2"/>
          <a:stretch/>
        </p:blipFill>
        <p:spPr>
          <a:xfrm>
            <a:off x="3124080" y="297180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4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4B49-1134-4EB9-AF74-1B6B9FD07AD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22824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concepts related to professional learning communities, learning teams and distributed leadership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dentify how to change the way that professional development is thought of and conducte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cribe various strategies for building instructional capacity and improving student achievemen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3203-EA0F-4D12-8037-E3F8D5EA6BA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PLC framework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olid foundation consisting of collaboratively developed and widely shared mission, vision, values and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ve teams that work interdependently to achieve common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focus on results as evidenced by a commitment to continuous impro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rbel"/>
              </a:rPr>
              <a:t>Source: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Getting Started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y Robert Eaker, Richard DuFour, &amp; Rebecca DuFou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806-CC68-427E-8DE7-7E1B0836F0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2"/>
          <p:cNvGraphicFramePr/>
          <p:nvPr/>
        </p:nvGraphicFramePr>
        <p:xfrm>
          <a:off x="152280" y="1523880"/>
          <a:ext cx="8839440" cy="518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8394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FB8-B3D5-4B9D-BEF8-B2FC4F5D70F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C:\Users\Lynn\AppData\Local\Microsoft\Windows\Temporary Internet Files\Content.IE5\5JSI1GSM\MP900438369[1].jpg"/>
          <p:cNvPicPr/>
          <p:nvPr/>
        </p:nvPicPr>
        <p:blipFill>
          <a:blip r:embed="rId4"/>
          <a:stretch/>
        </p:blipFill>
        <p:spPr>
          <a:xfrm>
            <a:off x="6553080" y="152280"/>
            <a:ext cx="2438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4000"/>
          </a:bodyPr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duction of iso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commitment to the mission and goals of the schoo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ared responsibility for student succ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ater job satisfaction and higher mora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wer rates of absenteeism (Hord, 199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stained school improvement efforts (DuFour &amp; Eaker, 1998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7920" indent="-26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urce: </a:t>
            </a: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centerforcsri.org/plc/literature.htm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F1D2-D376-4943-9B33-231C88A4430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7" descr="C:\Users\Lynn\AppData\Local\Microsoft\Windows\Temporary Internet Files\Content.IE5\5GY7RADI\MC900431611[1].png"/>
          <p:cNvPicPr/>
          <p:nvPr/>
        </p:nvPicPr>
        <p:blipFill>
          <a:blip r:embed="rId3"/>
          <a:stretch/>
        </p:blipFill>
        <p:spPr>
          <a:xfrm>
            <a:off x="7315200" y="152280"/>
            <a:ext cx="18288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747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rbel"/>
              </a:rPr>
              <a:t>Six learning team principles &amp; practices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hared values and goal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Collective responsibilities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Authentic assessment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elf-directed reflection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able settings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trong leadership support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AFC9-C6EB-4C54-97ED-DB78A8F3757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C:\Users\Lynn\AppData\Local\Microsoft\Windows\Temporary Internet Files\Content.IE5\3B2U4YW7\MC900297575[1].wmf"/>
          <p:cNvPicPr/>
          <p:nvPr/>
        </p:nvPicPr>
        <p:blipFill>
          <a:blip r:embed="rId2"/>
          <a:stretch/>
        </p:blipFill>
        <p:spPr>
          <a:xfrm>
            <a:off x="7162920" y="152280"/>
            <a:ext cx="18255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rbel"/>
              </a:rPr>
              <a:t>Share example of </a:t>
            </a:r>
            <a:r>
              <a:rPr b="1" i="1" lang="en-US" sz="6000" spc="-1" strike="noStrike">
                <a:solidFill>
                  <a:srgbClr val="000000"/>
                </a:solidFill>
                <a:latin typeface="Corbel"/>
              </a:rPr>
              <a:t>PLCs at Work in the Secondary Programs at PNW BOCES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B648-1828-48B3-A6FA-50028C9AE8E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4:25:57Z</dcterms:created>
  <dc:creator>Lynn</dc:creator>
  <dc:description/>
  <dc:language>en-US</dc:language>
  <cp:lastModifiedBy>lallen</cp:lastModifiedBy>
  <dcterms:modified xsi:type="dcterms:W3CDTF">2011-01-13T22:18:21Z</dcterms:modified>
  <cp:revision>83</cp:revision>
  <dc:subject/>
  <dc:title>Regional Institute for  School Leadership</dc:title>
</cp:coreProperties>
</file>